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CC05-0B03-4CF5-AEE2-6A69E97F4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0092-B9D3-483C-B4A1-BFACB4266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D829-5F65-4961-8FED-02A16072D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AED1-AF57-4A7A-9D9B-98FB305ED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ADD7-BA1A-4CB1-BAC8-A6653BBEC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CEBA-1582-408D-B0B6-305D9C1AB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17E0-E521-4B8D-B800-0A19B772F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594-DCD9-445B-8628-014CEB2A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4828-C4DB-4F3F-8004-304C3B21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3659-7B18-4F90-9B60-95BD2CE5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B894-5629-4D73-BC12-8BFE2589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5770-4D6B-49F6-A468-B479BC22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A0CF-0B6F-4E54-B9C7-B9C6C5E3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53EC-DDAC-4B9E-A053-D737600A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03B3-8887-4671-9D20-3CA31063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84EF-F0F9-4BF9-83FB-0AD79C29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21D4-C900-4CD5-974A-01245D7C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2929-815A-40AA-BF45-EACA4787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F17-2CE4-4CE7-92F7-13DDF4E4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EE2B-2987-4D79-9643-BF85211D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EBA2-1448-49AE-915A-C50AE467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3635-06F3-4A3D-8940-84B98E1B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7C0A-3D52-4647-9881-B9BE7F68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0D99-3C03-4A1D-BEC2-5B5BFBF8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32E15-71A1-43D1-B0D7-FC77F90C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D981C-CE85-4125-835F-54999C5A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0CB38-83E6-4460-9735-404B8B8B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4413F-07A5-4BE5-B478-64A1FBFE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B2F1B-1F24-442D-9114-C306C60E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A7B-3DC4-4C2C-BF57-6AF0B7D0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9570C-092D-45C1-8D3C-66FD8846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57845-139C-4693-AFFE-F8A8B406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4C389-C6E0-49F8-A5F9-BFA90771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B3CD5-79BB-489C-9AC7-0958E2A7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A44B6-933B-46CD-ACE9-8D3BE2ED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09428-D4D0-4959-89D8-3E41533B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614B6-7D60-484B-8EC7-37A8C0A3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8E5E21-CC4A-4055-B863-14ECCFDE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1F46AE-EC64-439D-B7F8-1D895299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D5B215-68F5-4A38-A213-366CCF11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1ED3-73A6-4AAA-957A-D2EBCB68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DBD5E9-7035-4C07-A377-F71F2CD4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52B93E-0090-49CE-AB6B-297C4C86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9ED495-D5D5-468C-8F08-CB9350E5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EDDDC6-0579-4B4D-9F6D-72BFE8CD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A6EDD8-78FB-4ED8-91F9-DC4E9C02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9B1276-FEA8-445D-AA3B-3E1D43F8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013268-1507-456F-98A5-3C00E377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D9729C-C5DC-4FFE-A112-C7F02D62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F4665C-4F54-4F02-BE8F-90E51A85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8C1E4-79F0-4ABF-9902-249D596F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E9C-0EB2-41AA-99CE-8D446142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2384D-54CA-45E4-A5F9-CCA13C1E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38ABC-FA89-436A-91E8-8C4BC6D1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FC3E8-2E4F-45A6-BFB0-60DB97DA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EC4AE-6BE0-475A-917A-3D53BAA5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10135-A21F-410E-B031-DC13AA00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BF289-44D5-4D96-B917-C6B7D858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19F28-2E4C-4029-AFF0-B62D15BC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77AD3-AE68-4D04-A424-F0F444DB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AF7AB-C521-4A0C-8FD7-9BCBB085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376C2-5D38-414E-83AA-993AA679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2C47-3673-4B00-9947-5FF26B58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3B88C-942C-4862-B738-1122FF93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30A268-2F87-4478-A60D-9E46192D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97E962-277A-4183-9720-E7225AE3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639C5C-801D-42C9-A791-99BC51E8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9B56AD-62FC-48A5-A278-5C96E516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F2A6D-18DE-4CBF-A76A-88A0202A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B283BB-9290-44D6-8A1C-D2011197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6B0673-ED67-4C62-A472-AE74E4F5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BCE68F-A492-40A7-B78B-80A3509D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FA57B2-D951-45A9-98BC-70AD8CB3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8781-AB21-40CD-A59D-BBEE8873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77AD2B-92E5-4150-BF03-45DDE19A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268D3F-8E61-463C-87EB-3A6DBFE2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B8B752-110C-4F68-9347-633D75FD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D0F60F-6291-44BC-9E27-CA9A1F84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85DE5F-6831-498F-8107-6476AF2C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55F241-B2B4-4BED-9150-4470CD0A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E20EB7-B619-4489-9128-2D297115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FF4465-C0AB-4985-B18F-D2812C2F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050EAF-D8FC-4AA6-B65A-1E94DE38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8F8DAE-8A19-4509-A241-A597C74B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E6F1-A90A-4746-8E27-3C8275AB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1B2164-8C9B-47F1-BE44-AC602F52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06A399-82C8-4177-AF95-14CEB0A2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B906BE-DFC7-46F0-A5E9-C391C7AA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3DDF8C-E8F1-4A65-BED7-920047F7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13CF1C-7E81-4719-82FE-DA16A831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B944A1-9595-4668-902D-5B04ED47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F25E26-8D90-45EA-BBAD-67B278D6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7838F0-DAAB-4504-B1FB-DF577265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EA7177-4667-48A3-B776-68C681B2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13A69C-BC08-4E66-A02C-4E0E2EEA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4CB-3AE8-47BD-86B9-BE8E61EE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099905-0347-4DD1-8D14-E78A1A5B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D133AB-9806-44F3-8A41-9F58E131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06B836-ECAF-4FB8-8F9B-6EC1C44B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4B6073-BEF3-4B03-AB5C-9E3D7724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1B5E46-1105-4149-84D3-DF183D34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6CEA87-D780-4827-B71A-2BBEABE5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40715E-179E-4BA0-857D-7561CA84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7C48-E3EF-4BA4-836A-1AA9DD636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FF2C-E878-4CCB-A78A-770E3DBF84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7BF6-C5C8-455B-9A0F-CBA582FA982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0630-730E-4DFA-9096-A083010044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C5ED-A383-4E72-929A-3D5BCC81A7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7449-AA0C-4FF5-8C11-FB61056BE4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2AD3-2965-4FF8-B88F-39CD7C10C9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CA8C-F1FB-4E17-AD6C-46FC22DB35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NIOR 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oots List # 17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UB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599840"/>
            <a:ext cx="38145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Und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elow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n place of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3430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bdea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bjec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bmerge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merge=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to arise; to plunge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burb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urb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a city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bmarin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bsoni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bterranea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btrac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bsid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6" descr="immerse.jpg"/>
          <p:cNvPicPr/>
          <p:nvPr/>
        </p:nvPicPr>
        <p:blipFill>
          <a:blip r:embed="rId1"/>
          <a:stretch/>
        </p:blipFill>
        <p:spPr>
          <a:xfrm>
            <a:off x="7086600" y="380880"/>
            <a:ext cx="1181160" cy="13716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submarine.jpg"/>
          <p:cNvPicPr/>
          <p:nvPr/>
        </p:nvPicPr>
        <p:blipFill>
          <a:blip r:embed="rId2"/>
          <a:stretch/>
        </p:blipFill>
        <p:spPr>
          <a:xfrm>
            <a:off x="2209680" y="5105520"/>
            <a:ext cx="2438640" cy="1752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subtract.jpg"/>
          <p:cNvPicPr/>
          <p:nvPr/>
        </p:nvPicPr>
        <p:blipFill>
          <a:blip r:embed="rId3"/>
          <a:stretch/>
        </p:blipFill>
        <p:spPr>
          <a:xfrm>
            <a:off x="7467480" y="5257800"/>
            <a:ext cx="1476360" cy="1600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9" descr="suburb.jpg"/>
          <p:cNvPicPr/>
          <p:nvPr/>
        </p:nvPicPr>
        <p:blipFill>
          <a:blip r:embed="rId4"/>
          <a:stretch/>
        </p:blipFill>
        <p:spPr>
          <a:xfrm>
            <a:off x="304920" y="2971800"/>
            <a:ext cx="2819160" cy="167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UP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0520" y="1599840"/>
            <a:ext cx="304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bov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Ov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ore tha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upersonic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uperstructure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struct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 to build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uperio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upervis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upersed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uperstitiou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upernatur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Picture 6" descr="supernatural.jpg"/>
          <p:cNvPicPr/>
          <p:nvPr/>
        </p:nvPicPr>
        <p:blipFill>
          <a:blip r:embed="rId1"/>
          <a:stretch/>
        </p:blipFill>
        <p:spPr>
          <a:xfrm>
            <a:off x="228600" y="419112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supersitious.jpg"/>
          <p:cNvPicPr/>
          <p:nvPr/>
        </p:nvPicPr>
        <p:blipFill>
          <a:blip r:embed="rId2"/>
          <a:stretch/>
        </p:blipFill>
        <p:spPr>
          <a:xfrm>
            <a:off x="6781680" y="228600"/>
            <a:ext cx="1876680" cy="1219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superstructure.jpg"/>
          <p:cNvPicPr/>
          <p:nvPr/>
        </p:nvPicPr>
        <p:blipFill>
          <a:blip r:embed="rId3"/>
          <a:stretch/>
        </p:blipFill>
        <p:spPr>
          <a:xfrm>
            <a:off x="3124080" y="3352680"/>
            <a:ext cx="1447920" cy="30481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superstitiouss.jpg"/>
          <p:cNvPicPr/>
          <p:nvPr/>
        </p:nvPicPr>
        <p:blipFill>
          <a:blip r:embed="rId4"/>
          <a:stretch/>
        </p:blipFill>
        <p:spPr>
          <a:xfrm>
            <a:off x="7315200" y="5105520"/>
            <a:ext cx="1523880" cy="150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YM-, SYN-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1676160"/>
            <a:ext cx="38145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t the same tim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ogeth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Lik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ymmetr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ynthetic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ympath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ynony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ynchroniz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yndrom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ymphony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sym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 at the same time; together; lik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8" name="Picture 6" descr="symphony.jpg"/>
          <p:cNvPicPr/>
          <p:nvPr/>
        </p:nvPicPr>
        <p:blipFill>
          <a:blip r:embed="rId1"/>
          <a:stretch/>
        </p:blipFill>
        <p:spPr>
          <a:xfrm>
            <a:off x="2819520" y="2895480"/>
            <a:ext cx="2286000" cy="1481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synchronize.jpg"/>
          <p:cNvPicPr/>
          <p:nvPr/>
        </p:nvPicPr>
        <p:blipFill>
          <a:blip r:embed="rId2"/>
          <a:stretch/>
        </p:blipFill>
        <p:spPr>
          <a:xfrm>
            <a:off x="304920" y="4419720"/>
            <a:ext cx="2352600" cy="21333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symmetry.jpg"/>
          <p:cNvPicPr/>
          <p:nvPr/>
        </p:nvPicPr>
        <p:blipFill>
          <a:blip r:embed="rId3"/>
          <a:stretch/>
        </p:blipFill>
        <p:spPr>
          <a:xfrm>
            <a:off x="7238880" y="0"/>
            <a:ext cx="172404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E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ar off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rom af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elegra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elepho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elevis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elegrap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elepath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elescop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4" name="Picture 6" descr="telephone.jpg"/>
          <p:cNvPicPr/>
          <p:nvPr/>
        </p:nvPicPr>
        <p:blipFill>
          <a:blip r:embed="rId1"/>
          <a:stretch/>
        </p:blipFill>
        <p:spPr>
          <a:xfrm>
            <a:off x="3657600" y="312408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telepathy.jpg"/>
          <p:cNvPicPr/>
          <p:nvPr/>
        </p:nvPicPr>
        <p:blipFill>
          <a:blip r:embed="rId2"/>
          <a:stretch/>
        </p:blipFill>
        <p:spPr>
          <a:xfrm>
            <a:off x="7238880" y="5029200"/>
            <a:ext cx="1685880" cy="16765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telescope.jpg"/>
          <p:cNvPicPr/>
          <p:nvPr/>
        </p:nvPicPr>
        <p:blipFill>
          <a:blip r:embed="rId3"/>
          <a:stretch/>
        </p:blipFill>
        <p:spPr>
          <a:xfrm>
            <a:off x="380880" y="3962520"/>
            <a:ext cx="2133720" cy="1523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telegram.jpg"/>
          <p:cNvPicPr/>
          <p:nvPr/>
        </p:nvPicPr>
        <p:blipFill>
          <a:blip r:embed="rId4"/>
          <a:stretch/>
        </p:blipFill>
        <p:spPr>
          <a:xfrm>
            <a:off x="2895480" y="4800600"/>
            <a:ext cx="2181240" cy="17524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television.jpg"/>
          <p:cNvPicPr/>
          <p:nvPr/>
        </p:nvPicPr>
        <p:blipFill>
          <a:blip r:embed="rId5"/>
          <a:stretch/>
        </p:blipFill>
        <p:spPr>
          <a:xfrm>
            <a:off x="6477120" y="152280"/>
            <a:ext cx="2209680" cy="14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RM, THERMO, THERM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560" y="1599840"/>
            <a:ext cx="297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ar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o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ea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rm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rmo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rmostat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stat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 to set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iatherm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rmo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2" name="Picture 6" descr="thermal.jpg"/>
          <p:cNvPicPr/>
          <p:nvPr/>
        </p:nvPicPr>
        <p:blipFill>
          <a:blip r:embed="rId1"/>
          <a:stretch/>
        </p:blipFill>
        <p:spPr>
          <a:xfrm>
            <a:off x="533520" y="3505320"/>
            <a:ext cx="2361960" cy="1523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7" descr="thermometer.jpg"/>
          <p:cNvPicPr/>
          <p:nvPr/>
        </p:nvPicPr>
        <p:blipFill>
          <a:blip r:embed="rId2"/>
          <a:stretch/>
        </p:blipFill>
        <p:spPr>
          <a:xfrm>
            <a:off x="2666880" y="5410080"/>
            <a:ext cx="2210040" cy="1152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thermos.jpg"/>
          <p:cNvPicPr/>
          <p:nvPr/>
        </p:nvPicPr>
        <p:blipFill>
          <a:blip r:embed="rId3"/>
          <a:stretch/>
        </p:blipFill>
        <p:spPr>
          <a:xfrm>
            <a:off x="6172200" y="5029200"/>
            <a:ext cx="1752480" cy="10954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thermostat.jpg"/>
          <p:cNvPicPr/>
          <p:nvPr/>
        </p:nvPicPr>
        <p:blipFill>
          <a:blip r:embed="rId4"/>
          <a:stretch/>
        </p:blipFill>
        <p:spPr>
          <a:xfrm>
            <a:off x="6781680" y="0"/>
            <a:ext cx="204804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5-19T16:45:06Z</dcterms:modified>
  <cp:revision>23</cp:revision>
  <dc:subject/>
  <dc:title>Roots List #1</dc:title>
</cp:coreProperties>
</file>